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596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360" y="943596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7356D8-E9B1-4458-BEB3-4B084530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2360" y="943596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3AE79E-56AC-4FC1-9DC6-C0910A83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943596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2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2360" y="943596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05D44D-2586-41A0-BD62-717B6B0AE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943596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52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42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B83-E814-4ED8-ADA3-FCE4E548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15880"/>
            <a:ext cx="82296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68D-44D6-4B26-B58B-BE710167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15880"/>
            <a:ext cx="40158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15880"/>
            <a:ext cx="40158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7CD-BBEA-4D4A-B7F1-ABA87ECD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15880"/>
            <a:ext cx="26496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15880"/>
            <a:ext cx="26496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15880"/>
            <a:ext cx="26496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FFA-9B41-4A2D-8CE4-66186C60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68F-AB52-4505-A526-93E3AA54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086-C437-413E-A628-4485AB0B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190-3F35-45ED-9806-E1240C22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950-26C0-4EE4-84F7-DBBA43EA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253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424-64A2-428F-B86B-5F647678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15880"/>
            <a:ext cx="40158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2A1-C086-4D43-8348-784EB41A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15880"/>
            <a:ext cx="40158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5AE-9E1C-49FF-BA78-11BA587C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15880"/>
            <a:ext cx="82296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E207-D376-48AE-9A71-5A79F098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E6B8-6A80-41DF-BB23-E3F7E4EB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7680" y="2768400"/>
            <a:ext cx="8294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ng Failure for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-Hole Multilateral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52560" y="5364000"/>
            <a:ext cx="664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urtesy of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berto Suarez-Rivera rsuarez@terratek.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rraTek Salt Lake City (Utah) www.terratek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23840" y="1758960"/>
            <a:ext cx="6394680" cy="3963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– Flow and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0800" y="5935680"/>
            <a:ext cx="77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pressure – isosurface, velocity – stream tubes, displacement – mesh and de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665440" y="851040"/>
            <a:ext cx="6097680" cy="457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3160" y="3529080"/>
            <a:ext cx="36558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>
            <a:off x="1093680" y="2322360"/>
            <a:ext cx="4051440" cy="1783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858760" y="2913120"/>
            <a:ext cx="2708280" cy="2305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– Failure Crite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75640" y="5178600"/>
            <a:ext cx="3391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is well and pumping r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could start here but unlik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ly safe through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08080" y="3936960"/>
            <a:ext cx="2212920" cy="1728720"/>
          </a:xfrm>
          <a:custGeom>
            <a:avLst/>
            <a:gdLst/>
            <a:ahLst/>
            <a:rect l="l" t="t" r="r" b="b"/>
            <a:pathLst>
              <a:path w="1315" h="778">
                <a:moveTo>
                  <a:pt x="1287" y="778"/>
                </a:moveTo>
                <a:cubicBezTo>
                  <a:pt x="1301" y="461"/>
                  <a:pt x="1315" y="144"/>
                  <a:pt x="1101" y="72"/>
                </a:cubicBezTo>
                <a:cubicBezTo>
                  <a:pt x="887" y="0"/>
                  <a:pt x="443" y="172"/>
                  <a:pt x="0" y="34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1000" y="965160"/>
            <a:ext cx="829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44200" y="1955880"/>
            <a:ext cx="734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ometry, data, and general approach from Roberto Suarez-Rivera at TerraTek (www.terratek.com).  Approach hinges on calibration to data.  Useful here was extensive data library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b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erratek (www.terratek.co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hysics combination of predefined equations: Darcy’s law (Earth Science Module), 3D solid (COMSOL Multiphysic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usual capability to arbitrarily define link between flow and structure equ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equation as user-defined post-processing option on elastic deformations obtained with COMSOL Multiphysics core package; elasto-plastic behavior possible with Structural Mechanics Mod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4760" y="955440"/>
            <a:ext cx="8294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8480" y="1946160"/>
            <a:ext cx="729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1] Suarez-Rivera, R., Begnaud, B.J., and Martin, W.J. 2004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merical analysis of open-hole multilateral completions minimizes the risk of costly junction failu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Rio Oil &amp; Gas Expo and Conference 2004 Proeceedings. Instituto Brasileiro de Petróleo e Gás, IBP096_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920" y="888840"/>
            <a:ext cx="8701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7840" y="2363400"/>
            <a:ext cx="8040600" cy="972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0160" y="1995480"/>
            <a:ext cx="0" cy="358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294600" y="1943280"/>
            <a:ext cx="9360" cy="411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34160" y="1336680"/>
            <a:ext cx="1074600" cy="690480"/>
          </a:xfrm>
          <a:custGeom>
            <a:avLst/>
            <a:gdLst/>
            <a:ahLst/>
            <a:rect l="l" t="t" r="r" b="b"/>
            <a:pathLst>
              <a:path w="677" h="435">
                <a:moveTo>
                  <a:pt x="284" y="393"/>
                </a:moveTo>
                <a:cubicBezTo>
                  <a:pt x="166" y="391"/>
                  <a:pt x="48" y="389"/>
                  <a:pt x="24" y="370"/>
                </a:cubicBezTo>
                <a:cubicBezTo>
                  <a:pt x="0" y="351"/>
                  <a:pt x="145" y="304"/>
                  <a:pt x="142" y="280"/>
                </a:cubicBezTo>
                <a:cubicBezTo>
                  <a:pt x="139" y="256"/>
                  <a:pt x="3" y="250"/>
                  <a:pt x="7" y="223"/>
                </a:cubicBezTo>
                <a:cubicBezTo>
                  <a:pt x="11" y="196"/>
                  <a:pt x="147" y="145"/>
                  <a:pt x="165" y="116"/>
                </a:cubicBezTo>
                <a:cubicBezTo>
                  <a:pt x="183" y="87"/>
                  <a:pt x="76" y="65"/>
                  <a:pt x="114" y="48"/>
                </a:cubicBezTo>
                <a:cubicBezTo>
                  <a:pt x="152" y="31"/>
                  <a:pt x="309" y="0"/>
                  <a:pt x="391" y="14"/>
                </a:cubicBezTo>
                <a:cubicBezTo>
                  <a:pt x="473" y="28"/>
                  <a:pt x="581" y="94"/>
                  <a:pt x="605" y="133"/>
                </a:cubicBezTo>
                <a:cubicBezTo>
                  <a:pt x="629" y="172"/>
                  <a:pt x="526" y="215"/>
                  <a:pt x="532" y="246"/>
                </a:cubicBezTo>
                <a:cubicBezTo>
                  <a:pt x="538" y="277"/>
                  <a:pt x="619" y="297"/>
                  <a:pt x="639" y="319"/>
                </a:cubicBezTo>
                <a:cubicBezTo>
                  <a:pt x="659" y="341"/>
                  <a:pt x="677" y="362"/>
                  <a:pt x="656" y="381"/>
                </a:cubicBezTo>
                <a:cubicBezTo>
                  <a:pt x="635" y="400"/>
                  <a:pt x="566" y="429"/>
                  <a:pt x="515" y="432"/>
                </a:cubicBezTo>
                <a:cubicBezTo>
                  <a:pt x="464" y="435"/>
                  <a:pt x="407" y="416"/>
                  <a:pt x="351" y="39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1000" y="2381400"/>
            <a:ext cx="6618240" cy="2052360"/>
          </a:xfrm>
          <a:custGeom>
            <a:avLst/>
            <a:gdLst/>
            <a:ahLst/>
            <a:rect l="l" t="t" r="r" b="b"/>
            <a:pathLst>
              <a:path w="2786" h="1310">
                <a:moveTo>
                  <a:pt x="2762" y="0"/>
                </a:moveTo>
                <a:cubicBezTo>
                  <a:pt x="2774" y="333"/>
                  <a:pt x="2786" y="666"/>
                  <a:pt x="2762" y="864"/>
                </a:cubicBezTo>
                <a:cubicBezTo>
                  <a:pt x="2738" y="1062"/>
                  <a:pt x="2710" y="1123"/>
                  <a:pt x="2615" y="1186"/>
                </a:cubicBezTo>
                <a:cubicBezTo>
                  <a:pt x="2520" y="1249"/>
                  <a:pt x="2507" y="1233"/>
                  <a:pt x="2192" y="1242"/>
                </a:cubicBezTo>
                <a:cubicBezTo>
                  <a:pt x="1877" y="1251"/>
                  <a:pt x="1088" y="1231"/>
                  <a:pt x="723" y="1242"/>
                </a:cubicBezTo>
                <a:cubicBezTo>
                  <a:pt x="358" y="1253"/>
                  <a:pt x="179" y="1281"/>
                  <a:pt x="0" y="1310"/>
                </a:cubicBezTo>
              </a:path>
            </a:pathLst>
          </a:custGeom>
          <a:noFill/>
          <a:ln w="127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85840" y="3848040"/>
            <a:ext cx="3452760" cy="490680"/>
          </a:xfrm>
          <a:custGeom>
            <a:avLst/>
            <a:gdLst/>
            <a:ahLst/>
            <a:rect l="l" t="t" r="r" b="b"/>
            <a:pathLst>
              <a:path w="1599" h="275">
                <a:moveTo>
                  <a:pt x="1599" y="266"/>
                </a:moveTo>
                <a:cubicBezTo>
                  <a:pt x="1489" y="270"/>
                  <a:pt x="1379" y="275"/>
                  <a:pt x="1248" y="266"/>
                </a:cubicBezTo>
                <a:cubicBezTo>
                  <a:pt x="1117" y="257"/>
                  <a:pt x="1022" y="253"/>
                  <a:pt x="814" y="209"/>
                </a:cubicBezTo>
                <a:cubicBezTo>
                  <a:pt x="606" y="165"/>
                  <a:pt x="303" y="82"/>
                  <a:pt x="0" y="0"/>
                </a:cubicBezTo>
              </a:path>
            </a:pathLst>
          </a:custGeom>
          <a:noFill/>
          <a:ln w="127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14520" y="2522520"/>
            <a:ext cx="557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acing arbitrary well geometries, including horizontal and branching segments enhances oil recovery but can be very expens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90760" y="4459320"/>
            <a:ext cx="5573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nfigurations are unstable and can lead to mechanical failure if the hole is left open or unc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odel evaluates if pumping from an open-hole multilateral well will cause it to f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52240" y="3642840"/>
            <a:ext cx="633240" cy="20484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5880" y="4437000"/>
            <a:ext cx="727200" cy="152640"/>
          </a:xfrm>
          <a:custGeom>
            <a:avLst/>
            <a:gdLst/>
            <a:ahLst/>
            <a:rect l="l" t="t" r="r" b="b"/>
            <a:pathLst>
              <a:path w="458" h="96">
                <a:moveTo>
                  <a:pt x="458" y="0"/>
                </a:moveTo>
                <a:cubicBezTo>
                  <a:pt x="397" y="3"/>
                  <a:pt x="336" y="7"/>
                  <a:pt x="260" y="23"/>
                </a:cubicBezTo>
                <a:cubicBezTo>
                  <a:pt x="184" y="39"/>
                  <a:pt x="92" y="67"/>
                  <a:pt x="0" y="96"/>
                </a:cubicBezTo>
              </a:path>
            </a:pathLst>
          </a:custGeom>
          <a:noFill/>
          <a:ln w="633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912600"/>
            <a:ext cx="8700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2050920"/>
            <a:ext cx="8405640" cy="52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ired by Roberto Suarez-Rivera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rraT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alt Lake City, Utah) Material properties and well geometry come from the Terratek databas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is one-way coupled to structural deformation for the simulation, failure criteria are automatically calculated from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 in COMSOL Multi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cy’s law for flow – Earth Science Mod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 Solid for structural deformation – COMSOL Multiphysics core 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ternatively, one can use elasto-plastic deformation options available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pecialized Structure Mechanics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criterion evaluated by adding user-defined expressions to mo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400" y="1427040"/>
            <a:ext cx="6216480" cy="4662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912600"/>
            <a:ext cx="8294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Ge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774720" y="2306160"/>
            <a:ext cx="860400" cy="615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770120" y="1870200"/>
            <a:ext cx="334800" cy="792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38320" y="3738600"/>
            <a:ext cx="1538280" cy="806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0040" y="1636560"/>
            <a:ext cx="3279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ction is section of a long w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 orientation, well diameter is 8.5 i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is lower half of 80 x 80 x 80 inch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ly there is no flow -  pumping sucks fluid from reservoir into the w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essure drop stresses the reservoir and deforms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it enough to collapse the wel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915840"/>
            <a:ext cx="829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044720" y="4183200"/>
                <a:ext cx="19224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∇</m:t>
                        </m:r>
                        <m:r>
                          <m:t xml:space="preserve">u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241280" y="4800600"/>
                <a:ext cx="10890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80200" y="39844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de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96920" y="2577960"/>
                <a:ext cx="187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κ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  <m:r>
                          <m:t xml:space="preserve">∇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67680" y="201312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id flow – Darcy’s la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14720" y="3035160"/>
            <a:ext cx="223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12920" y="5338800"/>
                <a:ext cx="931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D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700360" y="3035160"/>
            <a:ext cx="1819080" cy="1738440"/>
          </a:xfrm>
          <a:custGeom>
            <a:avLst/>
            <a:gdLst/>
            <a:ahLst/>
            <a:rect l="l" t="t" r="r" b="b"/>
            <a:pathLst>
              <a:path w="1353" h="699">
                <a:moveTo>
                  <a:pt x="0" y="0"/>
                </a:moveTo>
                <a:cubicBezTo>
                  <a:pt x="498" y="11"/>
                  <a:pt x="997" y="23"/>
                  <a:pt x="1175" y="124"/>
                </a:cubicBezTo>
                <a:cubicBezTo>
                  <a:pt x="1353" y="225"/>
                  <a:pt x="1210" y="509"/>
                  <a:pt x="1068" y="604"/>
                </a:cubicBezTo>
                <a:cubicBezTo>
                  <a:pt x="926" y="699"/>
                  <a:pt x="624" y="696"/>
                  <a:pt x="322" y="69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48440" y="2440080"/>
            <a:ext cx="211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press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perme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ynamic visco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22720" y="3216240"/>
            <a:ext cx="223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al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4454640"/>
            <a:ext cx="345960" cy="612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87080" y="4237200"/>
            <a:ext cx="2611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displacements (ve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strains (tens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stresses (tens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= forces or loads (ve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= tensor involv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(Young’s modul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oisson’s rati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4200" y="1319040"/>
            <a:ext cx="7313760" cy="5484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912600"/>
            <a:ext cx="8294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8760" y="5479920"/>
            <a:ext cx="1146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 = p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u,v,w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79440" y="1959120"/>
            <a:ext cx="172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normal flow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v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68040" y="4387680"/>
            <a:ext cx="18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normal flow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v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42680" y="4208400"/>
            <a:ext cx="1146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 = p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u,v,w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98800" y="3624120"/>
            <a:ext cx="1146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 = p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u,v,w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03640" y="2511360"/>
            <a:ext cx="3092400" cy="835200"/>
          </a:xfrm>
          <a:custGeom>
            <a:avLst/>
            <a:gdLst/>
            <a:ahLst/>
            <a:rect l="l" t="t" r="r" b="b"/>
            <a:pathLst>
              <a:path w="1869" h="566">
                <a:moveTo>
                  <a:pt x="1869" y="154"/>
                </a:moveTo>
                <a:cubicBezTo>
                  <a:pt x="1587" y="77"/>
                  <a:pt x="1305" y="0"/>
                  <a:pt x="994" y="69"/>
                </a:cubicBezTo>
                <a:cubicBezTo>
                  <a:pt x="683" y="138"/>
                  <a:pt x="341" y="352"/>
                  <a:pt x="0" y="56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71680" y="2562120"/>
            <a:ext cx="2679840" cy="300240"/>
          </a:xfrm>
          <a:custGeom>
            <a:avLst/>
            <a:gdLst/>
            <a:ahLst/>
            <a:rect l="l" t="t" r="r" b="b"/>
            <a:pathLst>
              <a:path w="1524" h="167">
                <a:moveTo>
                  <a:pt x="1524" y="167"/>
                </a:moveTo>
                <a:cubicBezTo>
                  <a:pt x="1208" y="91"/>
                  <a:pt x="892" y="16"/>
                  <a:pt x="638" y="8"/>
                </a:cubicBezTo>
                <a:cubicBezTo>
                  <a:pt x="384" y="0"/>
                  <a:pt x="192" y="58"/>
                  <a:pt x="0" y="11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2854440"/>
            <a:ext cx="2529000" cy="1174680"/>
          </a:xfrm>
          <a:custGeom>
            <a:avLst/>
            <a:gdLst/>
            <a:ahLst/>
            <a:rect l="l" t="t" r="r" b="b"/>
            <a:pathLst>
              <a:path w="1593" h="740">
                <a:moveTo>
                  <a:pt x="1593" y="0"/>
                </a:moveTo>
                <a:cubicBezTo>
                  <a:pt x="1350" y="0"/>
                  <a:pt x="1107" y="1"/>
                  <a:pt x="842" y="124"/>
                </a:cubicBezTo>
                <a:cubicBezTo>
                  <a:pt x="577" y="247"/>
                  <a:pt x="288" y="493"/>
                  <a:pt x="0" y="74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8800" y="1503360"/>
            <a:ext cx="1302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 = p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F =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6680" y="5342040"/>
            <a:ext cx="1747800" cy="601560"/>
          </a:xfrm>
          <a:custGeom>
            <a:avLst/>
            <a:gdLst/>
            <a:ahLst/>
            <a:rect l="l" t="t" r="r" b="b"/>
            <a:pathLst>
              <a:path w="1101" h="379">
                <a:moveTo>
                  <a:pt x="1101" y="379"/>
                </a:moveTo>
                <a:cubicBezTo>
                  <a:pt x="834" y="370"/>
                  <a:pt x="567" y="362"/>
                  <a:pt x="384" y="299"/>
                </a:cubicBezTo>
                <a:cubicBezTo>
                  <a:pt x="201" y="236"/>
                  <a:pt x="61" y="49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198760" y="390384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1120" y="20700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83520" y="4387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358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9600" y="574524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720" y="3786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34800" y="2467080"/>
            <a:ext cx="58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8040" y="156204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38400" y="2773440"/>
            <a:ext cx="18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normal flow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0040" y="1690560"/>
            <a:ext cx="2843280" cy="1608120"/>
          </a:xfrm>
          <a:custGeom>
            <a:avLst/>
            <a:gdLst/>
            <a:ahLst/>
            <a:rect l="l" t="t" r="r" b="b"/>
            <a:pathLst>
              <a:path w="1604" h="872">
                <a:moveTo>
                  <a:pt x="1604" y="81"/>
                </a:moveTo>
                <a:cubicBezTo>
                  <a:pt x="1460" y="40"/>
                  <a:pt x="1317" y="0"/>
                  <a:pt x="1050" y="132"/>
                </a:cubicBezTo>
                <a:cubicBezTo>
                  <a:pt x="783" y="264"/>
                  <a:pt x="148" y="766"/>
                  <a:pt x="0" y="8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1000" y="1238400"/>
            <a:ext cx="7313400" cy="5484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253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h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0000" y="3062160"/>
            <a:ext cx="408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We choosen to have COMSOL Multiphy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utomatically mesh the geomet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with globally coarse discre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MSOL Multiphysics automatically zooms in on nuances in the 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08080" y="1373040"/>
            <a:ext cx="6581520" cy="4935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522000"/>
            <a:ext cx="4200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-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06640" y="5884920"/>
            <a:ext cx="284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luid pressure – isosu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luid velocity - stream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46840" y="1163520"/>
            <a:ext cx="393048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sure decreases from reservoir to well b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ute pressure change inside sp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 speeds up en route to wellbore, except velocity is low inside split (note streamline col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30560" y="1447920"/>
            <a:ext cx="3128760" cy="984240"/>
          </a:xfrm>
          <a:custGeom>
            <a:avLst/>
            <a:gdLst/>
            <a:ahLst/>
            <a:rect l="l" t="t" r="r" b="b"/>
            <a:pathLst>
              <a:path w="1504" h="620">
                <a:moveTo>
                  <a:pt x="1504" y="419"/>
                </a:moveTo>
                <a:cubicBezTo>
                  <a:pt x="1373" y="209"/>
                  <a:pt x="1242" y="0"/>
                  <a:pt x="991" y="33"/>
                </a:cubicBezTo>
                <a:cubicBezTo>
                  <a:pt x="740" y="66"/>
                  <a:pt x="193" y="502"/>
                  <a:pt x="0" y="62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-9360" y="1962000"/>
            <a:ext cx="6097320" cy="457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110120" y="8809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1865160" y="2138400"/>
            <a:ext cx="3208320" cy="12859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394000" y="2832120"/>
            <a:ext cx="5584680" cy="12492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3640" y="1911240"/>
            <a:ext cx="26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splacement –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splacement - de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16640" y="2314440"/>
            <a:ext cx="434880" cy="2473560"/>
          </a:xfrm>
          <a:custGeom>
            <a:avLst/>
            <a:gdLst/>
            <a:ahLst/>
            <a:rect l="l" t="t" r="r" b="b"/>
            <a:pathLst>
              <a:path w="681" h="1683">
                <a:moveTo>
                  <a:pt x="388" y="1683"/>
                </a:moveTo>
                <a:cubicBezTo>
                  <a:pt x="194" y="1419"/>
                  <a:pt x="0" y="1155"/>
                  <a:pt x="49" y="875"/>
                </a:cubicBezTo>
                <a:cubicBezTo>
                  <a:pt x="98" y="595"/>
                  <a:pt x="576" y="147"/>
                  <a:pt x="681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2000" y="6019920"/>
            <a:ext cx="345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cements from pumping decrease size of borehole ope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9840" y="4568760"/>
            <a:ext cx="2292120" cy="1509840"/>
          </a:xfrm>
          <a:custGeom>
            <a:avLst/>
            <a:gdLst/>
            <a:ahLst/>
            <a:rect l="l" t="t" r="r" b="b"/>
            <a:pathLst>
              <a:path w="1440" h="1067">
                <a:moveTo>
                  <a:pt x="46" y="1067"/>
                </a:moveTo>
                <a:cubicBezTo>
                  <a:pt x="23" y="913"/>
                  <a:pt x="0" y="760"/>
                  <a:pt x="232" y="582"/>
                </a:cubicBezTo>
                <a:cubicBezTo>
                  <a:pt x="464" y="404"/>
                  <a:pt x="952" y="202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31960" y="4299120"/>
            <a:ext cx="216000" cy="269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9040" y="4730760"/>
            <a:ext cx="480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ttle displacement inside sp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atest impact “above” sp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8:06:22Z</dcterms:created>
  <dc:creator>berndt</dc:creator>
  <dc:description/>
  <dc:language>en-US</dc:language>
  <cp:lastModifiedBy>Vincent Cocula</cp:lastModifiedBy>
  <cp:lastPrinted>2005-01-27T15:22:03Z</cp:lastPrinted>
  <dcterms:modified xsi:type="dcterms:W3CDTF">2007-04-02T23:44:29Z</dcterms:modified>
  <cp:revision>383</cp:revision>
  <dc:subject/>
  <dc:title>FEMLAB inom bioteknik</dc:title>
</cp:coreProperties>
</file>