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0720" cy="498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925800" y="-360"/>
            <a:ext cx="3060720" cy="498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66760" y="712440"/>
            <a:ext cx="4656240" cy="34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41040" y="4419360"/>
            <a:ext cx="510372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0" y="8838720"/>
            <a:ext cx="3060720" cy="4273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925800" y="8838720"/>
            <a:ext cx="3060720" cy="4273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1AC26CA-855D-4A7C-840B-25D3AEAB476A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925800" y="8838720"/>
            <a:ext cx="3060720" cy="4273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09E309A-DC32-4C11-AF71-5A5D994CBA31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8838720"/>
            <a:ext cx="3060720" cy="4273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-360"/>
            <a:ext cx="3060720" cy="498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25800" y="-360"/>
            <a:ext cx="3060720" cy="498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4500720" y="379440"/>
            <a:ext cx="2230200" cy="1673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0" y="379440"/>
            <a:ext cx="5029200" cy="860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0960" y="7529400"/>
            <a:ext cx="189576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marL="108000" indent="-108000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Web-Based Train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8000" indent="-108000">
              <a:lnSpc>
                <a:spcPct val="87000"/>
              </a:lnSpc>
              <a:spcBef>
                <a:spcPts val="814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rain at work                   or at ho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8000" indent="-108000">
              <a:lnSpc>
                <a:spcPct val="87000"/>
              </a:lnSpc>
              <a:spcBef>
                <a:spcPts val="814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onnect at your conven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1960" y="7529400"/>
            <a:ext cx="174960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marL="108000" indent="-108000"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n-Site Train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8000" indent="-108000">
              <a:lnSpc>
                <a:spcPct val="87000"/>
              </a:lnSpc>
              <a:spcBef>
                <a:spcPts val="814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ring training             to your s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08000" indent="-108000">
              <a:lnSpc>
                <a:spcPct val="87000"/>
              </a:lnSpc>
              <a:spcBef>
                <a:spcPts val="814"/>
              </a:spcBef>
              <a:spcAft>
                <a:spcPts val="162"/>
              </a:spcAft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ustom courses  avail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829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4435560"/>
            <a:ext cx="829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816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43556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8160" y="443556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72760" y="228600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7520" y="228600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443556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72760" y="443556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7520" y="443556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68000" y="228600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404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18160" y="2286000"/>
            <a:ext cx="404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68000" y="907920"/>
            <a:ext cx="82947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8160" y="2286000"/>
            <a:ext cx="404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8000" y="443556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228600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404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816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718160" y="443556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816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" y="4435560"/>
            <a:ext cx="829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829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" y="4435560"/>
            <a:ext cx="829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16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" y="443556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718160" y="443556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72760" y="228600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77520" y="228600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" y="443556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72760" y="443556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77520" y="4435560"/>
            <a:ext cx="267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404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8160" y="2286000"/>
            <a:ext cx="404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907920"/>
            <a:ext cx="82947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160" y="2286000"/>
            <a:ext cx="404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443556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404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16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8160" y="443556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160" y="2286000"/>
            <a:ext cx="404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4435560"/>
            <a:ext cx="829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28600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09600" y="1214280"/>
            <a:ext cx="6500880" cy="4438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95256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SOL Multiphysic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 Destruct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2520" y="285840"/>
            <a:ext cx="8294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ary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3360" y="1457280"/>
            <a:ext cx="6105600" cy="4884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488280" y="1812960"/>
            <a:ext cx="2627280" cy="2837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s of PMLs are fixed bounda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ther boundaries are free to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s applied on the elements on the upper surface 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2520" y="285840"/>
            <a:ext cx="8294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ary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30880" y="1965240"/>
            <a:ext cx="2894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 of phase loads applied to the four elements on the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6600" y="1295280"/>
            <a:ext cx="6105600" cy="4884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05360" y="4338720"/>
            <a:ext cx="3790800" cy="153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3895560" y="2048040"/>
            <a:ext cx="1381320" cy="74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7840" y="2771640"/>
            <a:ext cx="885600" cy="15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5680" y="1390680"/>
            <a:ext cx="6105600" cy="4884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2520" y="285840"/>
            <a:ext cx="8294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ary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0600" y="1536840"/>
            <a:ext cx="2894040" cy="33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at interior boundaries of the slabs are deselected, implying they are part of the metal plate itsel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ly, this implies that the elements are considered only on the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. the interior boundaries only affect the mesh, not the phys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0600" y="5165640"/>
            <a:ext cx="2894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 solved using default settings, over a frequency range of 50 kHz to 0.1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66800" y="1695600"/>
            <a:ext cx="4562640" cy="31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2520" y="285840"/>
            <a:ext cx="8294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95360" y="1152360"/>
            <a:ext cx="6710400" cy="5369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221600" y="1641600"/>
            <a:ext cx="19033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quantities to plot from predefined list or enter any desitred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686560" y="1638000"/>
            <a:ext cx="163800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3457440"/>
            <a:ext cx="19033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ot shows total deformation (on an exaggerated sc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4952880"/>
            <a:ext cx="219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-displac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77360" y="4952880"/>
            <a:ext cx="218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-displac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520" y="285840"/>
            <a:ext cx="8294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4240" y="1847880"/>
            <a:ext cx="3802320" cy="285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962600" y="1876320"/>
            <a:ext cx="3811680" cy="285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3200" y="1343160"/>
            <a:ext cx="5850000" cy="467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82520" y="285840"/>
            <a:ext cx="8294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710240" y="2857680"/>
            <a:ext cx="4395600" cy="3296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6126120" y="1593720"/>
            <a:ext cx="2894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le displacement plot per requirements (thickness on y ax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436320"/>
            <a:ext cx="8294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62480" y="1616040"/>
            <a:ext cx="3243240" cy="2965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0240" y="556920"/>
            <a:ext cx="57531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1" marL="56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ia Joha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iaj@comso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ineet Dra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vineet@comso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MSOL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781-273-3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upport e-mail: support@comso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elephone support via local off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Burlington, MA, 781-273-3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65480" y="2168640"/>
            <a:ext cx="5018040" cy="39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40920" y="1774800"/>
            <a:ext cx="80089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astic waves are produced from stresses exerted by small elements embedded in the metal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 plate dimensions: 150mm x 80mm x 7.5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ylindrica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ault model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the metal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 of phase stresses applied on four embedded elements, consider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ly on the 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ation lay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al properties and boundary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000" y="56196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9560" y="379440"/>
            <a:ext cx="603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Model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47640" y="1314360"/>
            <a:ext cx="6077160" cy="5276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96200" y="3171960"/>
            <a:ext cx="24858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gin by selecting a 2d geometry without choosing any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7040" y="1165320"/>
            <a:ext cx="6710400" cy="5368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160" y="295200"/>
            <a:ext cx="8294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76520" y="1314360"/>
            <a:ext cx="20203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d geometry dra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the line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9560" y="290196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l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21720" y="41846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edded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60280" y="394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1440" y="2282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86520" y="5137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2640" y="3041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72320" y="2965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9240" y="2085840"/>
            <a:ext cx="266400" cy="2574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91920" y="4997520"/>
            <a:ext cx="212400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, go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 -&gt; Extrud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ude 2d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z-dir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8440" y="1295280"/>
            <a:ext cx="6105600" cy="4884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202440" y="1168560"/>
            <a:ext cx="2894040" cy="2562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at the element ‘slabs’ run through the plate thickness to ensure a uniform mes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ly, the element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evant only on the surface, as can be seen later in the presentatio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520" y="285840"/>
            <a:ext cx="8294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160" y="285480"/>
            <a:ext cx="8294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and Me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11800" y="1079640"/>
            <a:ext cx="2894040" cy="2288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e mesh used on top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 to Mesh -&gt; Free Mesh Parameters, enter required (problem specific) parameters and press ‘OK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440" y="1133640"/>
            <a:ext cx="61056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2520" y="285840"/>
            <a:ext cx="8294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21520" y="1365120"/>
            <a:ext cx="2894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ept mesh used in the z-direction to ensure sufficient meshing in z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240" y="1047600"/>
            <a:ext cx="6105600" cy="4884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181480" y="3929040"/>
            <a:ext cx="3372120" cy="25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249960" y="3219480"/>
            <a:ext cx="28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structured mesh on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962760" y="3533400"/>
            <a:ext cx="2570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3680" y="6159600"/>
            <a:ext cx="33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ed mesh in z-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048200" y="5714640"/>
            <a:ext cx="216216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2000" y="1380960"/>
            <a:ext cx="6105600" cy="4884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345360" y="1365120"/>
            <a:ext cx="277020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 to Multiphysics -&gt; Model Naviga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dd the required physics in the 3d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520" y="285840"/>
            <a:ext cx="8294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240" y="1419120"/>
            <a:ext cx="6105600" cy="488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2520" y="285840"/>
            <a:ext cx="8294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21520" y="1365120"/>
            <a:ext cx="289404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l properties defined under ‘Material’ 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400560" y="1638000"/>
            <a:ext cx="2819160" cy="3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21520" y="4038480"/>
            <a:ext cx="2894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ectly matched layers used on all plate edges to model infinite dom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467080" y="4543200"/>
            <a:ext cx="374328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4324320" y="4123800"/>
            <a:ext cx="187632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981600"/>
            <a:ext cx="48290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895400" y="3685680"/>
            <a:ext cx="7632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1999800" y="4400640"/>
            <a:ext cx="142884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686040"/>
            <a:ext cx="123840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53000" y="3819600"/>
            <a:ext cx="7632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12:21:31Z</dcterms:created>
  <dc:creator>Bjorn Sjodin</dc:creator>
  <dc:description/>
  <cp:keywords>finite element FEA multiphysics CAD COMSOL FEMLAB MATLAB</cp:keywords>
  <dc:language>en-US</dc:language>
  <cp:lastModifiedBy>Vineet Dravid</cp:lastModifiedBy>
  <dcterms:modified xsi:type="dcterms:W3CDTF">2006-12-19T14:37:38Z</dcterms:modified>
  <cp:revision>1442</cp:revision>
  <dc:subject>COMSOL Multiphysics Presentation</dc:subject>
  <dc:title>COMSOL Multiphysics 3.3</dc:title>
</cp:coreProperties>
</file>