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516-8D95-4E4F-BB62-E76E6E86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673-567D-4C36-BFB9-0E190571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C4A-9E04-4456-8217-F8F380C7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F0B-B6EF-4DD0-B3FA-6C42DC41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73C-7D5C-4BB3-946B-5C421851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BFBF-D9D7-417B-8EC9-04D12A8E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A5A-C729-4E70-8F68-DB18E8AC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6E9-48DF-4805-B7DE-90369841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0B3-0D80-4EC1-9174-0ABEBC59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1D1-EC5F-48E4-A80B-35C96D72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5FA-BD94-4595-9CA8-79AD0EBC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B3E-F48A-44A2-AAEB-0F7DFCEA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A9DA-9C2B-4AE2-9B44-18E0265A3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914400" y="914400"/>
                <a:ext cx="1905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14400" y="1600200"/>
                <a:ext cx="1600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90720" y="2362320"/>
                <a:ext cx="59436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/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14400" y="3124080"/>
                <a:ext cx="66438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82720" y="4267080"/>
                <a:ext cx="669456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33520" y="533520"/>
                <a:ext cx="6189480" cy="53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ltiplying both sides of Eq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y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k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e>
                                        </m:d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Euler's formula, it can be shown that,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n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38280" y="533520"/>
                <a:ext cx="3191040" cy="57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0720" y="990720"/>
                <a:ext cx="5867280" cy="33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fter simplifying the above result, and using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Polar form, we hav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985680" y="4876920"/>
                <a:ext cx="59533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rectangular form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80880" y="380880"/>
                <a:ext cx="6400800" cy="47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9760" y="609480"/>
                <a:ext cx="6629400" cy="531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compute other terms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sSub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milarly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, Eqn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∧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k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85800" y="838080"/>
                <a:ext cx="6900840" cy="529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k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d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71600" y="914400"/>
                <a:ext cx="4876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6:25:30Z</dcterms:created>
  <dc:creator>rajbabu</dc:creator>
  <dc:description/>
  <dc:language>en-US</dc:language>
  <cp:lastModifiedBy>rajbabu</cp:lastModifiedBy>
  <dcterms:modified xsi:type="dcterms:W3CDTF">2002-08-15T15:50:08Z</dcterms:modified>
  <cp:revision>9</cp:revision>
  <dc:subject/>
  <dc:title>PowerPoint Presentation</dc:title>
</cp:coreProperties>
</file>