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AA2-E05F-458A-A642-85928B41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5BF-AAEF-45BA-BD0A-0061F6F9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9EB-9AE1-48B9-9EC5-95F9225A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93C-5DA7-4B33-B59F-B88C81EA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708-B7C3-490C-BC7B-E6A1B56D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AF0-F23B-4E25-8BCD-6B4468E2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3F2-2486-4A76-8BAA-359D65CC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06D-0B0B-468B-9967-128C9547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CF7-A89E-4547-938F-A3A80A7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ABD-F959-4A0C-84E0-01E9F71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B54-C6CF-4EAE-B14A-90AB1A42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456-3135-42EA-834B-AD1D1362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EDAF-0897-4720-B821-E5DA0C5A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649440"/>
                <a:ext cx="5334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5920" y="1523880"/>
                <a:ext cx="559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6320" y="2895480"/>
                <a:ext cx="7221240" cy="32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,0,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 be expressed as sum of sinusoids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320" y="228600"/>
                <a:ext cx="608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320" y="1371600"/>
                <a:ext cx="53337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320" y="2709720"/>
                <a:ext cx="7169040" cy="382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π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3520" y="1523880"/>
                <a:ext cx="4876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380880"/>
                <a:ext cx="4876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2440" y="380880"/>
                <a:ext cx="72626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6019920"/>
                <a:ext cx="4876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8600" y="76320"/>
                <a:ext cx="5181480" cy="15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2400" y="1828800"/>
                <a:ext cx="88246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240" y="3352680"/>
                <a:ext cx="7638840" cy="34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/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π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320" y="304920"/>
                <a:ext cx="4211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1143000"/>
                <a:ext cx="48988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80" y="2590920"/>
                <a:ext cx="7143840" cy="35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πk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7T21:28:02Z</dcterms:modified>
  <cp:revision>17</cp:revision>
  <dc:subject/>
  <dc:title>PowerPoint Presentation</dc:title>
</cp:coreProperties>
</file>